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9D9B-B29A-43D0-9682-FAB0977B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4DCD-79CB-494C-B153-0B0A315B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4550-CDFB-4793-A67D-1CEBFAC9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FFE5-C7A9-4640-B559-BFD8A87C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E9F-F0C9-4C3A-88D8-D293E288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374D-C89A-4317-B7AE-1D0C8D0D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BA16-34F4-456D-B533-9F819A54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E5B-3DA6-4506-9AAC-7DCB0591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629-0062-46AF-A4F7-FDC56310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0AC-6749-489B-802B-ACCC6C44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D5BC-5C36-402A-8D0E-8A1C09E7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561-4F75-4EBD-968B-CA2F3101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ADE8-4556-48DE-A227-2744393B4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93960" y="2201760"/>
            <a:ext cx="1530360" cy="693720"/>
          </a:xfrm>
          <a:custGeom>
            <a:avLst/>
            <a:gdLst/>
            <a:ahLst/>
            <a:rect l="l" t="t" r="r" b="b"/>
            <a:pathLst>
              <a:path w="964" h="437">
                <a:moveTo>
                  <a:pt x="6" y="0"/>
                </a:moveTo>
                <a:lnTo>
                  <a:pt x="0" y="437"/>
                </a:lnTo>
                <a:lnTo>
                  <a:pt x="964" y="4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2590920"/>
            <a:ext cx="247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8120" y="2800440"/>
            <a:ext cx="257400" cy="180720"/>
          </a:xfrm>
          <a:custGeom>
            <a:avLst/>
            <a:gdLst/>
            <a:ahLst/>
            <a:rect l="l" t="t" r="r" b="b"/>
            <a:pathLst>
              <a:path w="162" h="114">
                <a:moveTo>
                  <a:pt x="162" y="114"/>
                </a:moveTo>
                <a:lnTo>
                  <a:pt x="0" y="60"/>
                </a:lnTo>
                <a:lnTo>
                  <a:pt x="162" y="0"/>
                </a:lnTo>
                <a:lnTo>
                  <a:pt x="162" y="11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8120" y="2838600"/>
            <a:ext cx="180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323960" y="3038400"/>
            <a:ext cx="9720" cy="117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267080" y="3505320"/>
            <a:ext cx="1526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3733920"/>
            <a:ext cx="123840" cy="123840"/>
          </a:xfrm>
          <a:custGeom>
            <a:avLst/>
            <a:gdLst/>
            <a:ahLst/>
            <a:rect l="l" t="t" r="r" b="b"/>
            <a:pathLst>
              <a:path w="78" h="78">
                <a:moveTo>
                  <a:pt x="0" y="78"/>
                </a:moveTo>
                <a:lnTo>
                  <a:pt x="36" y="0"/>
                </a:lnTo>
                <a:lnTo>
                  <a:pt x="78" y="78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95880" y="3666960"/>
            <a:ext cx="66600" cy="66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343400" y="4210200"/>
            <a:ext cx="9360" cy="100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304880" y="4856040"/>
            <a:ext cx="95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86160" y="4560840"/>
            <a:ext cx="123840" cy="123840"/>
          </a:xfrm>
          <a:custGeom>
            <a:avLst/>
            <a:gdLst/>
            <a:ahLst/>
            <a:rect l="l" t="t" r="r" b="b"/>
            <a:pathLst>
              <a:path w="78" h="78">
                <a:moveTo>
                  <a:pt x="78" y="0"/>
                </a:moveTo>
                <a:lnTo>
                  <a:pt x="42" y="78"/>
                </a:lnTo>
                <a:lnTo>
                  <a:pt x="0" y="0"/>
                </a:lnTo>
                <a:lnTo>
                  <a:pt x="78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95880" y="4684680"/>
            <a:ext cx="104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14960" y="1392120"/>
            <a:ext cx="1440" cy="164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80240" y="2266920"/>
            <a:ext cx="54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es miembro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29280" y="1506600"/>
            <a:ext cx="171360" cy="257040"/>
          </a:xfrm>
          <a:custGeom>
            <a:avLst/>
            <a:gdLst/>
            <a:ahLst/>
            <a:rect l="l" t="t" r="r" b="b"/>
            <a:pathLst>
              <a:path w="108" h="162">
                <a:moveTo>
                  <a:pt x="108" y="6"/>
                </a:moveTo>
                <a:lnTo>
                  <a:pt x="48" y="162"/>
                </a:lnTo>
                <a:lnTo>
                  <a:pt x="0" y="0"/>
                </a:lnTo>
                <a:lnTo>
                  <a:pt x="108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76800" y="176364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19560" y="2486160"/>
            <a:ext cx="181080" cy="247680"/>
          </a:xfrm>
          <a:custGeom>
            <a:avLst/>
            <a:gdLst/>
            <a:ahLst/>
            <a:rect l="l" t="t" r="r" b="b"/>
            <a:pathLst>
              <a:path w="114" h="156">
                <a:moveTo>
                  <a:pt x="0" y="156"/>
                </a:moveTo>
                <a:lnTo>
                  <a:pt x="60" y="0"/>
                </a:lnTo>
                <a:lnTo>
                  <a:pt x="114" y="156"/>
                </a:lnTo>
                <a:lnTo>
                  <a:pt x="0" y="15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257360" y="2486160"/>
            <a:ext cx="104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67400" y="2305080"/>
            <a:ext cx="476280" cy="466560"/>
          </a:xfrm>
          <a:custGeom>
            <a:avLst/>
            <a:gdLst/>
            <a:ahLst/>
            <a:rect l="l" t="t" r="r" b="b"/>
            <a:pathLst>
              <a:path w="300" h="294">
                <a:moveTo>
                  <a:pt x="6" y="252"/>
                </a:moveTo>
                <a:lnTo>
                  <a:pt x="0" y="0"/>
                </a:lnTo>
                <a:lnTo>
                  <a:pt x="300" y="0"/>
                </a:lnTo>
                <a:lnTo>
                  <a:pt x="300" y="294"/>
                </a:lnTo>
                <a:lnTo>
                  <a:pt x="48" y="29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75880" y="2390760"/>
            <a:ext cx="358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supervis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38600" y="2476440"/>
            <a:ext cx="66600" cy="666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14920" y="2685960"/>
            <a:ext cx="257040" cy="171720"/>
          </a:xfrm>
          <a:custGeom>
            <a:avLst/>
            <a:gdLst/>
            <a:ahLst/>
            <a:rect l="l" t="t" r="r" b="b"/>
            <a:pathLst>
              <a:path w="162" h="108">
                <a:moveTo>
                  <a:pt x="6" y="0"/>
                </a:moveTo>
                <a:lnTo>
                  <a:pt x="162" y="54"/>
                </a:lnTo>
                <a:lnTo>
                  <a:pt x="0" y="108"/>
                </a:lnTo>
                <a:lnTo>
                  <a:pt x="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71960" y="273384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3200400"/>
            <a:ext cx="1455840" cy="800280"/>
          </a:xfrm>
          <a:custGeom>
            <a:avLst/>
            <a:gdLst/>
            <a:ahLst/>
            <a:rect l="l" t="t" r="r" b="b"/>
            <a:pathLst>
              <a:path w="869" h="504">
                <a:moveTo>
                  <a:pt x="0" y="0"/>
                </a:moveTo>
                <a:lnTo>
                  <a:pt x="869" y="0"/>
                </a:lnTo>
                <a:lnTo>
                  <a:pt x="863" y="50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62480" y="4000680"/>
            <a:ext cx="1817640" cy="1217520"/>
          </a:xfrm>
          <a:custGeom>
            <a:avLst/>
            <a:gdLst/>
            <a:ahLst/>
            <a:rect l="l" t="t" r="r" b="b"/>
            <a:pathLst>
              <a:path w="1145" h="767">
                <a:moveTo>
                  <a:pt x="1145" y="0"/>
                </a:moveTo>
                <a:lnTo>
                  <a:pt x="1139" y="767"/>
                </a:lnTo>
                <a:lnTo>
                  <a:pt x="0" y="76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22880" y="4560840"/>
            <a:ext cx="104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81680" y="5160960"/>
            <a:ext cx="123840" cy="123840"/>
          </a:xfrm>
          <a:custGeom>
            <a:avLst/>
            <a:gdLst/>
            <a:ahLst/>
            <a:rect l="l" t="t" r="r" b="b"/>
            <a:pathLst>
              <a:path w="78" h="78">
                <a:moveTo>
                  <a:pt x="0" y="0"/>
                </a:moveTo>
                <a:lnTo>
                  <a:pt x="78" y="36"/>
                </a:lnTo>
                <a:lnTo>
                  <a:pt x="0" y="7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5105520"/>
            <a:ext cx="75960" cy="1508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13040" y="3200400"/>
            <a:ext cx="1511280" cy="1028880"/>
          </a:xfrm>
          <a:custGeom>
            <a:avLst/>
            <a:gdLst/>
            <a:ahLst/>
            <a:rect l="l" t="t" r="r" b="b"/>
            <a:pathLst>
              <a:path w="952" h="648">
                <a:moveTo>
                  <a:pt x="6" y="648"/>
                </a:moveTo>
                <a:lnTo>
                  <a:pt x="0" y="0"/>
                </a:lnTo>
                <a:lnTo>
                  <a:pt x="95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36720" y="3800520"/>
            <a:ext cx="169920" cy="257040"/>
          </a:xfrm>
          <a:custGeom>
            <a:avLst/>
            <a:gdLst/>
            <a:ahLst/>
            <a:rect l="l" t="t" r="r" b="b"/>
            <a:pathLst>
              <a:path w="107" h="162">
                <a:moveTo>
                  <a:pt x="0" y="162"/>
                </a:moveTo>
                <a:lnTo>
                  <a:pt x="54" y="0"/>
                </a:lnTo>
                <a:lnTo>
                  <a:pt x="107" y="162"/>
                </a:lnTo>
                <a:lnTo>
                  <a:pt x="0" y="1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4600" y="373392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78120" y="3105000"/>
            <a:ext cx="257400" cy="181080"/>
          </a:xfrm>
          <a:custGeom>
            <a:avLst/>
            <a:gdLst/>
            <a:ahLst/>
            <a:rect l="l" t="t" r="r" b="b"/>
            <a:pathLst>
              <a:path w="162" h="114">
                <a:moveTo>
                  <a:pt x="162" y="114"/>
                </a:moveTo>
                <a:lnTo>
                  <a:pt x="0" y="54"/>
                </a:lnTo>
                <a:lnTo>
                  <a:pt x="162" y="0"/>
                </a:lnTo>
                <a:lnTo>
                  <a:pt x="162" y="11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11520" y="316224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69120" y="2125800"/>
            <a:ext cx="47520" cy="187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7600" y="2847960"/>
            <a:ext cx="30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ntra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340320" y="2743200"/>
            <a:ext cx="954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1600" y="3448080"/>
            <a:ext cx="180720" cy="257040"/>
          </a:xfrm>
          <a:custGeom>
            <a:avLst/>
            <a:gdLst/>
            <a:ahLst/>
            <a:rect l="l" t="t" r="r" b="b"/>
            <a:pathLst>
              <a:path w="114" h="162">
                <a:moveTo>
                  <a:pt x="0" y="162"/>
                </a:moveTo>
                <a:lnTo>
                  <a:pt x="54" y="0"/>
                </a:lnTo>
                <a:lnTo>
                  <a:pt x="114" y="162"/>
                </a:lnTo>
                <a:lnTo>
                  <a:pt x="0" y="1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69120" y="3352680"/>
            <a:ext cx="108000" cy="95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89040" y="4229280"/>
            <a:ext cx="675000" cy="617400"/>
          </a:xfrm>
          <a:custGeom>
            <a:avLst/>
            <a:gdLst/>
            <a:ahLst/>
            <a:rect l="l" t="t" r="r" b="b"/>
            <a:pathLst>
              <a:path w="425" h="389">
                <a:moveTo>
                  <a:pt x="0" y="0"/>
                </a:moveTo>
                <a:lnTo>
                  <a:pt x="0" y="389"/>
                </a:lnTo>
                <a:lnTo>
                  <a:pt x="413" y="389"/>
                </a:lnTo>
                <a:lnTo>
                  <a:pt x="42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6520" y="4703760"/>
            <a:ext cx="34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mpon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2840" y="4703760"/>
            <a:ext cx="52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"/>
              </a:rPr>
              <a:t>compuesto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03360" y="4408560"/>
            <a:ext cx="171720" cy="257040"/>
          </a:xfrm>
          <a:custGeom>
            <a:avLst/>
            <a:gdLst/>
            <a:ahLst/>
            <a:rect l="l" t="t" r="r" b="b"/>
            <a:pathLst>
              <a:path w="108" h="162">
                <a:moveTo>
                  <a:pt x="108" y="6"/>
                </a:moveTo>
                <a:lnTo>
                  <a:pt x="54" y="162"/>
                </a:lnTo>
                <a:lnTo>
                  <a:pt x="0" y="0"/>
                </a:lnTo>
                <a:lnTo>
                  <a:pt x="108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60600" y="466560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8640" y="4408560"/>
            <a:ext cx="171360" cy="257040"/>
          </a:xfrm>
          <a:custGeom>
            <a:avLst/>
            <a:gdLst/>
            <a:ahLst/>
            <a:rect l="l" t="t" r="r" b="b"/>
            <a:pathLst>
              <a:path w="108" h="162">
                <a:moveTo>
                  <a:pt x="108" y="6"/>
                </a:moveTo>
                <a:lnTo>
                  <a:pt x="48" y="162"/>
                </a:lnTo>
                <a:lnTo>
                  <a:pt x="0" y="0"/>
                </a:lnTo>
                <a:lnTo>
                  <a:pt x="108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16160" y="4665600"/>
            <a:ext cx="66600" cy="66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1752480"/>
            <a:ext cx="95076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86240" y="1752480"/>
            <a:ext cx="35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14440" y="1886040"/>
            <a:ext cx="951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5040" y="1895400"/>
            <a:ext cx="749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úmero Di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47920" y="2019240"/>
            <a:ext cx="749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mbre Di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53680" y="2133720"/>
            <a:ext cx="812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rección Divis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11680" y="2610000"/>
            <a:ext cx="998280" cy="81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62600" y="2629080"/>
            <a:ext cx="459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mple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11680" y="2762280"/>
            <a:ext cx="998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47320" y="2771640"/>
            <a:ext cx="84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 u="sng">
                <a:solidFill>
                  <a:srgbClr val="000000"/>
                </a:solidFill>
                <a:uFillTx/>
                <a:latin typeface="Arial"/>
              </a:rPr>
              <a:t>Número Emple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49840" y="2895480"/>
            <a:ext cx="36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49840" y="3019320"/>
            <a:ext cx="36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Apelli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7320" y="3143160"/>
            <a:ext cx="919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Función que cump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50920" y="3267000"/>
            <a:ext cx="805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Sueldo Emple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94280" y="1639800"/>
            <a:ext cx="922320" cy="94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90920" y="1658880"/>
            <a:ext cx="31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94280" y="1792440"/>
            <a:ext cx="9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4320" y="1801800"/>
            <a:ext cx="70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úmero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4320" y="1925640"/>
            <a:ext cx="70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mbre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440" y="2049480"/>
            <a:ext cx="771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rección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55120" y="2173320"/>
            <a:ext cx="762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idad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50440" y="2295360"/>
            <a:ext cx="74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éfono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50080" y="2419200"/>
            <a:ext cx="517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x Cl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84760" y="3571920"/>
            <a:ext cx="951120" cy="81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8720" y="359100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84760" y="3724200"/>
            <a:ext cx="951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43800" y="3733920"/>
            <a:ext cx="794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úmero Proye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43800" y="3857760"/>
            <a:ext cx="794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mbre Proye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41640" y="3981600"/>
            <a:ext cx="808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iqueta Proye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40920" y="4105440"/>
            <a:ext cx="771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cha Comienz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0560" y="4229280"/>
            <a:ext cx="68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cha Térmi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2895480"/>
            <a:ext cx="788760" cy="44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240" y="2895480"/>
            <a:ext cx="50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dic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67360" y="3067200"/>
            <a:ext cx="788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120" y="3124080"/>
            <a:ext cx="272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 u="sng">
                <a:solidFill>
                  <a:srgbClr val="000000"/>
                </a:solidFill>
                <a:uFillTx/>
                <a:latin typeface="Arial"/>
              </a:rPr>
              <a:t>Hor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32004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59200" y="4979880"/>
            <a:ext cx="950760" cy="44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25240" y="4998960"/>
            <a:ext cx="41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59200" y="5132520"/>
            <a:ext cx="9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21840" y="5141880"/>
            <a:ext cx="80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ombre Ac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26160" y="5265720"/>
            <a:ext cx="712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sto Activ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55840" y="3933720"/>
            <a:ext cx="893880" cy="569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21520" y="3952800"/>
            <a:ext cx="36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55840" y="4086360"/>
            <a:ext cx="893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06960" y="4095720"/>
            <a:ext cx="753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úmero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06960" y="4219560"/>
            <a:ext cx="753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mbre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07320" y="4343400"/>
            <a:ext cx="590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po Mat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97360" y="3981600"/>
            <a:ext cx="884160" cy="44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65920" y="4000680"/>
            <a:ext cx="335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ch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97360" y="4133880"/>
            <a:ext cx="884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59280" y="4143240"/>
            <a:ext cx="750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cha comienz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55680" y="426708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cha térmi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13716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2640" y="35812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56520" y="22860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5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120" y="83808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3400" y="4495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4400" y="54864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0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4419720"/>
            <a:ext cx="31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3124080"/>
            <a:ext cx="152640" cy="181080"/>
          </a:xfrm>
          <a:custGeom>
            <a:avLst/>
            <a:gdLst/>
            <a:ahLst/>
            <a:rect l="l" t="t" r="r" b="b"/>
            <a:pathLst>
              <a:path w="162" h="114">
                <a:moveTo>
                  <a:pt x="162" y="114"/>
                </a:moveTo>
                <a:lnTo>
                  <a:pt x="0" y="54"/>
                </a:lnTo>
                <a:lnTo>
                  <a:pt x="162" y="0"/>
                </a:lnTo>
                <a:lnTo>
                  <a:pt x="162" y="11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124080"/>
            <a:ext cx="257400" cy="171720"/>
          </a:xfrm>
          <a:custGeom>
            <a:avLst/>
            <a:gdLst/>
            <a:ahLst/>
            <a:rect l="l" t="t" r="r" b="b"/>
            <a:pathLst>
              <a:path w="162" h="108">
                <a:moveTo>
                  <a:pt x="6" y="0"/>
                </a:moveTo>
                <a:lnTo>
                  <a:pt x="162" y="54"/>
                </a:lnTo>
                <a:lnTo>
                  <a:pt x="0" y="108"/>
                </a:lnTo>
                <a:lnTo>
                  <a:pt x="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4840" y="4724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25800" y="1192320"/>
            <a:ext cx="789120" cy="4474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7640" y="1154160"/>
            <a:ext cx="789120" cy="44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35320" y="1173240"/>
            <a:ext cx="28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7640" y="1306440"/>
            <a:ext cx="78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45600" y="1316160"/>
            <a:ext cx="672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úmero Gru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44520" y="1440000"/>
            <a:ext cx="57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pecial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10:47:08Z</dcterms:created>
  <dc:creator> </dc:creator>
  <dc:description/>
  <dc:language>en-US</dc:language>
  <cp:lastModifiedBy> </cp:lastModifiedBy>
  <dcterms:modified xsi:type="dcterms:W3CDTF">2005-06-02T16:52:01Z</dcterms:modified>
  <cp:revision>5</cp:revision>
  <dc:subject/>
  <dc:title>Presentación de PowerPoint</dc:title>
</cp:coreProperties>
</file>